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2.png" ContentType="image/png"/>
  <Override PartName="/ppt/media/image19.png" ContentType="image/png"/>
  <Override PartName="/ppt/media/image21.wmf" ContentType="image/x-wmf"/>
  <Override PartName="/ppt/media/image18.jpeg" ContentType="image/jpeg"/>
  <Override PartName="/ppt/media/image17.png" ContentType="image/png"/>
  <Override PartName="/ppt/media/image15.wmf" ContentType="image/x-wmf"/>
  <Override PartName="/ppt/media/image14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.jpeg" ContentType="image/jpeg"/>
  <Override PartName="/ppt/media/image20.png" ContentType="image/png"/>
  <Override PartName="/ppt/media/image26.png" ContentType="image/png"/>
  <Override PartName="/ppt/media/image3.png" ContentType="image/png"/>
  <Override PartName="/ppt/media/image27.png" ContentType="image/png"/>
  <Override PartName="/ppt/media/image4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9.png" ContentType="image/png"/>
  <Override PartName="/ppt/media/image41.png" ContentType="image/png"/>
  <Override PartName="/ppt/media/image40.png" ContentType="image/png"/>
  <Override PartName="/ppt/media/image9.jpeg" ContentType="image/jpeg"/>
  <Override PartName="/ppt/media/image23.wmf" ContentType="image/x-wmf"/>
  <Override PartName="/ppt/media/image37.jpeg" ContentType="image/jpeg"/>
  <Override PartName="/ppt/media/image30.png" ContentType="image/png"/>
  <Override PartName="/ppt/media/image5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6.png" ContentType="image/png"/>
  <Override PartName="/ppt/media/image32.wmf" ContentType="image/x-wmf"/>
  <Override PartName="/ppt/media/image29.png" ContentType="image/png"/>
  <Override PartName="/ppt/media/image28.png" ContentType="image/png"/>
  <Override PartName="/ppt/media/image31.wmf" ContentType="image/x-wmf"/>
  <Override PartName="/ppt/media/image7.jpeg" ContentType="image/jpeg"/>
  <Override PartName="/ppt/media/image13.jpeg" ContentType="image/jpeg"/>
  <Override PartName="/ppt/media/image4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3D7-2B4D-4E43-986A-AE196A36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941-4205-4518-B2FA-25CB1695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429-509B-4172-B45D-EB9C1E4C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4507-48C4-4254-94AE-05C0C870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1FCA-E3AD-4BA8-8220-5327B858A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67ED-DED2-4EF4-ACCD-6446EB7F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371-50BC-45D9-A746-F75A36AF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9543-F43E-47DD-8F3C-7605932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5E52-F0C7-46A0-9DE8-3A434529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C349-88F3-4CA2-8C5C-7524C692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9ED7-FEC1-41B9-9994-1554305E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A392-5851-484C-B2A4-32293B09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553-B774-4585-B0E5-373BFBB2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055C-7427-4E1A-A061-AD173331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6495-7164-4593-A062-23F9466D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8180-C155-44AA-8B5A-144B25DC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681C-5AF1-4467-AD04-2015F3AC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FA1-380E-4962-A542-E601C4512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A628-380E-4B06-B116-FC3D4FDAB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4C9F-5474-450F-944A-5DFC0387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3B4D-ADEA-4E2F-823F-AD00ADE2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BE4-0009-4550-82F4-22A71F54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C5C0-E0C0-4808-9934-A03C24E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534-FEDF-4E2F-9E8E-56D2E34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453360"/>
            <a:ext cx="28958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16360" y="6453360"/>
            <a:ext cx="21337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ED68-30CF-479A-AAEA-476CC54DFA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9144000" cy="19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y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Graphics Interface, Victoria, B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348AB-A9A4-42D5-AC4E-D0E4517986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3649680"/>
            <a:ext cx="9144000" cy="195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proving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on 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4220640"/>
            <a:ext cx="8497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xime Collomb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trick Baudisch</a:t>
            </a:r>
            <a:r>
              <a:rPr b="1" lang="en-US" sz="2800" spc="-1" strike="noStrike">
                <a:solidFill>
                  <a:srgbClr val="c8c8c8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Microsoft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Mountaz Hascoët,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LIRMM</a:t>
            </a: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8c8c8"/>
                </a:solidFill>
                <a:latin typeface="Arial"/>
              </a:rPr>
              <a:t>Brian Lee, Stanford </a:t>
            </a:r>
            <a:r>
              <a:rPr b="0" i="1" lang="en-US" sz="2800" spc="-1" strike="noStrike">
                <a:solidFill>
                  <a:srgbClr val="c8c8c8"/>
                </a:solidFill>
                <a:latin typeface="Arial"/>
              </a:rPr>
              <a:t>Computer Graph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rcRect l="7384" t="0" r="4747" b="0"/>
          <a:stretch/>
        </p:blipFill>
        <p:spPr>
          <a:xfrm>
            <a:off x="3348000" y="404640"/>
            <a:ext cx="2664000" cy="17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isbee [Khan, UIST 04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3751560" cy="17618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0" y="3789360"/>
            <a:ext cx="6273720" cy="2351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64280" y="1197000"/>
            <a:ext cx="387972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EDFD-43A3-4CCC-BE27-7AD44047E25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ser pointers [Olsen 01, Myers 02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34320" cy="518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7FE-72A9-4308-BC6C-5A96294215E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ctorBeam [Parker, in 30min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7993080" cy="301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CBDF-D661-4525-AEF8-BC6C39E807D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throw [Hascoët, HCI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ntograph principl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~go go technique [Poupyrev, UIST 96]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D158-6871-4638-AD29-3CC87B4170A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200"/>
                            </p:stCondLst>
                            <p:childTnLst>
                              <p:par>
                                <p:cTn id="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40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32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DAR [Nacenta,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tographs (lots of them…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7564680" cy="3211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BA7-D846-4E88-91FC-484E4F0E8D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rag-and-pop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[Baudisch, INTERACT 03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9BD-8D3D-4890-AF3D-8D9D145AADB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734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468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273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cuum [Bezerianos, CHI 05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7632720" cy="49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B84-19A2-4366-B544-9FF5063C505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The question…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9B95-645A-4F59-BE5E-B46E514D46B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be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user to content (push-and-thro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ing content to user (drag-and-po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just good old direct manipulati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ick-and-drop)</a:t>
            </a:r>
            <a:br>
              <a:rPr sz="2800"/>
            </a:b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9575-B320-4194-AF3F-E12D521401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drag-and-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symmetric targe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sure proxies appear in current display un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-1668" b="-1352"/>
          <a:stretch/>
        </p:blipFill>
        <p:spPr>
          <a:xfrm>
            <a:off x="4284720" y="4365720"/>
            <a:ext cx="4319640" cy="18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F45D-DE21-411B-8A38-B6EDF8C079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698480"/>
            <a:ext cx="9144000" cy="418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1697040"/>
            <a:ext cx="9144000" cy="4183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0" y="1700280"/>
            <a:ext cx="9144000" cy="4179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Push-and-pop: not quite a dem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6021360"/>
            <a:ext cx="56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wnload our demo from www.lirmm.fr/vag/dra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B8B-AC07-476B-8E7A-874B185B3CE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xing push-and-thr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non-linear accel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 semantic pointing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w down pointer over target [Blanch CHI 04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908000" y="3933720"/>
            <a:ext cx="514368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4CDB-3539-4099-8A26-A0B16BF70FB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40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440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4800"/>
                            </p:stCondLst>
                            <p:childTnLst>
                              <p:par>
                                <p:cTn id="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48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t wait: maybe push-and-throw and drag-and-pop are not mutually exclusive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2015-82AE-4933-90A0-56CB16A5AD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drag-and-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inging targets to the u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imprecision of push-and-thr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om push-and-thr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object centered take-off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oid target set selection error of drag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659640" y="4292640"/>
            <a:ext cx="2306520" cy="12193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294600" y="2205000"/>
            <a:ext cx="2849400" cy="123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4D3-D32A-4552-85A1-38AC0828365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92360" y="2997360"/>
            <a:ext cx="514332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456C-951B-4E17-B50E-EFC08D3B0E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467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534"/>
                            </p:stCondLst>
                            <p:childTnLst>
                              <p:par>
                                <p:cTn id="1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1068"/>
                            </p:stCondLst>
                            <p:childTnLst>
                              <p:par>
                                <p:cTn id="1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5534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36F3-2F1D-41B9-96AA-05D71680C31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616720" y="260280"/>
            <a:ext cx="352728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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Wal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2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 participa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29080" cy="35463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067280" y="2833560"/>
            <a:ext cx="5076720" cy="3630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4437000"/>
            <a:ext cx="38512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Wingdings"/>
                <a:ea typeface="Wingdings"/>
              </a:rPr>
              <a:t>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uble display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exp. n°1)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7280" y="2852640"/>
            <a:ext cx="5076720" cy="3600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559-E2D0-441B-B35C-8F784B24DD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250920" y="2276640"/>
          <a:ext cx="8569080" cy="3622680"/>
        </p:xfrm>
        <a:graphic>
          <a:graphicData uri="http://schemas.openxmlformats.org/drawingml/2006/table">
            <a:tbl>
              <a:tblPr/>
              <a:tblGrid>
                <a:gridCol w="2828880"/>
                <a:gridCol w="2500200"/>
                <a:gridCol w="3240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echniq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ppro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ed to reor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84b7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ick-and-dr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Push-and-thr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Accelerated 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targ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Constant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Drag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b2b2b2"/>
                          </a:solidFill>
                          <a:latin typeface="Arial"/>
                        </a:rPr>
                        <a:t>O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ush-and-p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 poin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nce, later ne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108000" y="278136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8000" y="3860640"/>
            <a:ext cx="8856720" cy="100836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869000"/>
            <a:ext cx="8856720" cy="100800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E612-E725-48F7-9E9C-135E9AF7053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gging icons into target ico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a simulated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 interfa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dista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eated 3 time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 times on the 2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xp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6 / 288 trials for each particip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endent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vement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ror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jective satisf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8126-C3CA-46EC-8BBC-87FD2200EA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2955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620720" y="1474920"/>
            <a:ext cx="6337440" cy="3429000"/>
          </a:xfrm>
          <a:custGeom>
            <a:avLst/>
            <a:gdLst/>
            <a:ahLst/>
            <a:rect l="l" t="t" r="r" b="b"/>
            <a:pathLst>
              <a:path w="3992" h="2160">
                <a:moveTo>
                  <a:pt x="208" y="1836"/>
                </a:moveTo>
                <a:cubicBezTo>
                  <a:pt x="369" y="1795"/>
                  <a:pt x="923" y="1906"/>
                  <a:pt x="1129" y="1843"/>
                </a:cubicBezTo>
                <a:cubicBezTo>
                  <a:pt x="1335" y="1780"/>
                  <a:pt x="1335" y="1675"/>
                  <a:pt x="1444" y="1459"/>
                </a:cubicBezTo>
                <a:cubicBezTo>
                  <a:pt x="1553" y="1243"/>
                  <a:pt x="1559" y="766"/>
                  <a:pt x="1782" y="546"/>
                </a:cubicBezTo>
                <a:cubicBezTo>
                  <a:pt x="2005" y="326"/>
                  <a:pt x="2488" y="209"/>
                  <a:pt x="2781" y="139"/>
                </a:cubicBezTo>
                <a:cubicBezTo>
                  <a:pt x="3074" y="69"/>
                  <a:pt x="3381" y="0"/>
                  <a:pt x="3541" y="123"/>
                </a:cubicBezTo>
                <a:cubicBezTo>
                  <a:pt x="3701" y="246"/>
                  <a:pt x="3992" y="733"/>
                  <a:pt x="3741" y="876"/>
                </a:cubicBezTo>
                <a:cubicBezTo>
                  <a:pt x="3490" y="1019"/>
                  <a:pt x="2395" y="848"/>
                  <a:pt x="2036" y="983"/>
                </a:cubicBezTo>
                <a:cubicBezTo>
                  <a:pt x="1677" y="1118"/>
                  <a:pt x="1730" y="1500"/>
                  <a:pt x="1587" y="1685"/>
                </a:cubicBezTo>
                <a:cubicBezTo>
                  <a:pt x="1444" y="1870"/>
                  <a:pt x="1416" y="2026"/>
                  <a:pt x="1179" y="2093"/>
                </a:cubicBezTo>
                <a:cubicBezTo>
                  <a:pt x="942" y="2160"/>
                  <a:pt x="324" y="2132"/>
                  <a:pt x="162" y="2089"/>
                </a:cubicBezTo>
                <a:cubicBezTo>
                  <a:pt x="0" y="2046"/>
                  <a:pt x="47" y="1877"/>
                  <a:pt x="208" y="183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12800" y="3370320"/>
            <a:ext cx="6505560" cy="1539720"/>
          </a:xfrm>
          <a:custGeom>
            <a:avLst/>
            <a:gdLst/>
            <a:ahLst/>
            <a:rect l="l" t="t" r="r" b="b"/>
            <a:pathLst>
              <a:path w="4098" h="970">
                <a:moveTo>
                  <a:pt x="267" y="519"/>
                </a:moveTo>
                <a:cubicBezTo>
                  <a:pt x="338" y="448"/>
                  <a:pt x="493" y="490"/>
                  <a:pt x="599" y="486"/>
                </a:cubicBezTo>
                <a:cubicBezTo>
                  <a:pt x="705" y="482"/>
                  <a:pt x="743" y="552"/>
                  <a:pt x="904" y="496"/>
                </a:cubicBezTo>
                <a:cubicBezTo>
                  <a:pt x="1065" y="440"/>
                  <a:pt x="1410" y="177"/>
                  <a:pt x="1567" y="148"/>
                </a:cubicBezTo>
                <a:cubicBezTo>
                  <a:pt x="1724" y="119"/>
                  <a:pt x="1747" y="308"/>
                  <a:pt x="1849" y="319"/>
                </a:cubicBezTo>
                <a:cubicBezTo>
                  <a:pt x="1951" y="330"/>
                  <a:pt x="2073" y="209"/>
                  <a:pt x="2179" y="212"/>
                </a:cubicBezTo>
                <a:cubicBezTo>
                  <a:pt x="2285" y="215"/>
                  <a:pt x="2388" y="333"/>
                  <a:pt x="2486" y="335"/>
                </a:cubicBezTo>
                <a:cubicBezTo>
                  <a:pt x="2584" y="337"/>
                  <a:pt x="2611" y="282"/>
                  <a:pt x="2770" y="227"/>
                </a:cubicBezTo>
                <a:cubicBezTo>
                  <a:pt x="2929" y="172"/>
                  <a:pt x="3287" y="10"/>
                  <a:pt x="3439" y="5"/>
                </a:cubicBezTo>
                <a:cubicBezTo>
                  <a:pt x="3591" y="0"/>
                  <a:pt x="3627" y="103"/>
                  <a:pt x="3684" y="196"/>
                </a:cubicBezTo>
                <a:cubicBezTo>
                  <a:pt x="3741" y="289"/>
                  <a:pt x="4098" y="492"/>
                  <a:pt x="3784" y="565"/>
                </a:cubicBezTo>
                <a:cubicBezTo>
                  <a:pt x="3470" y="638"/>
                  <a:pt x="2210" y="582"/>
                  <a:pt x="1797" y="632"/>
                </a:cubicBezTo>
                <a:cubicBezTo>
                  <a:pt x="1384" y="682"/>
                  <a:pt x="1578" y="819"/>
                  <a:pt x="1307" y="866"/>
                </a:cubicBezTo>
                <a:cubicBezTo>
                  <a:pt x="1036" y="913"/>
                  <a:pt x="346" y="970"/>
                  <a:pt x="173" y="912"/>
                </a:cubicBezTo>
                <a:cubicBezTo>
                  <a:pt x="0" y="854"/>
                  <a:pt x="196" y="590"/>
                  <a:pt x="267" y="51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5600" y="4246560"/>
            <a:ext cx="6465600" cy="649440"/>
          </a:xfrm>
          <a:custGeom>
            <a:avLst/>
            <a:gdLst/>
            <a:ahLst/>
            <a:rect l="l" t="t" r="r" b="b"/>
            <a:pathLst>
              <a:path w="4073" h="409">
                <a:moveTo>
                  <a:pt x="0" y="366"/>
                </a:moveTo>
                <a:cubicBezTo>
                  <a:pt x="559" y="409"/>
                  <a:pt x="2853" y="403"/>
                  <a:pt x="3463" y="351"/>
                </a:cubicBezTo>
                <a:cubicBezTo>
                  <a:pt x="4073" y="299"/>
                  <a:pt x="3698" y="102"/>
                  <a:pt x="3663" y="51"/>
                </a:cubicBezTo>
                <a:cubicBezTo>
                  <a:pt x="3628" y="0"/>
                  <a:pt x="3378" y="27"/>
                  <a:pt x="3256" y="44"/>
                </a:cubicBezTo>
                <a:cubicBezTo>
                  <a:pt x="3134" y="61"/>
                  <a:pt x="3130" y="151"/>
                  <a:pt x="2933" y="151"/>
                </a:cubicBezTo>
                <a:cubicBezTo>
                  <a:pt x="2736" y="151"/>
                  <a:pt x="2328" y="50"/>
                  <a:pt x="2073" y="44"/>
                </a:cubicBezTo>
                <a:cubicBezTo>
                  <a:pt x="1818" y="38"/>
                  <a:pt x="1663" y="93"/>
                  <a:pt x="1405" y="113"/>
                </a:cubicBezTo>
                <a:cubicBezTo>
                  <a:pt x="1147" y="133"/>
                  <a:pt x="738" y="171"/>
                  <a:pt x="522" y="167"/>
                </a:cubicBezTo>
                <a:cubicBezTo>
                  <a:pt x="306" y="163"/>
                  <a:pt x="194" y="57"/>
                  <a:pt x="107" y="90"/>
                </a:cubicBezTo>
                <a:cubicBezTo>
                  <a:pt x="20" y="123"/>
                  <a:pt x="22" y="309"/>
                  <a:pt x="0" y="366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80000" y="3860640"/>
            <a:ext cx="431640" cy="43200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1640" y="1557360"/>
            <a:ext cx="0" cy="3816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8BED-993B-4485-9098-905EBE9DA80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293080" cy="4233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386064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56000" y="2131920"/>
            <a:ext cx="2232000" cy="5050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450864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3211560"/>
            <a:ext cx="2232000" cy="504720"/>
          </a:xfrm>
          <a:prstGeom prst="rect">
            <a:avLst/>
          </a:prstGeom>
          <a:noFill/>
          <a:ln w="76320">
            <a:solidFill>
              <a:srgbClr val="284b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773-0ED5-47ED-803A-B5C7201DE7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r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ts of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ames ahead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017-3B95-4853-BBCD-DB5DBF77D0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irst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68360" y="1557360"/>
            <a:ext cx="4608720" cy="40845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1773360"/>
            <a:ext cx="2592360" cy="503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067280" y="2349360"/>
            <a:ext cx="259236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067280" y="4365720"/>
            <a:ext cx="2592360" cy="107928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FCCF-79B2-4428-AF90-65D3564B9712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eated same study on 3-unit display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56000" y="2860560"/>
            <a:ext cx="4751280" cy="31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65B-1092-4E24-B21F-7BC9087F550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4297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38280" y="1544760"/>
            <a:ext cx="6659640" cy="3468600"/>
          </a:xfrm>
          <a:custGeom>
            <a:avLst/>
            <a:gdLst/>
            <a:ahLst/>
            <a:rect l="l" t="t" r="r" b="b"/>
            <a:pathLst>
              <a:path w="4195" h="2185">
                <a:moveTo>
                  <a:pt x="321" y="2153"/>
                </a:moveTo>
                <a:cubicBezTo>
                  <a:pt x="413" y="2134"/>
                  <a:pt x="492" y="2012"/>
                  <a:pt x="651" y="1999"/>
                </a:cubicBezTo>
                <a:cubicBezTo>
                  <a:pt x="810" y="1986"/>
                  <a:pt x="1117" y="2128"/>
                  <a:pt x="1274" y="2076"/>
                </a:cubicBezTo>
                <a:cubicBezTo>
                  <a:pt x="1431" y="2024"/>
                  <a:pt x="1426" y="1743"/>
                  <a:pt x="1593" y="1686"/>
                </a:cubicBezTo>
                <a:cubicBezTo>
                  <a:pt x="1760" y="1629"/>
                  <a:pt x="2100" y="1738"/>
                  <a:pt x="2274" y="1731"/>
                </a:cubicBezTo>
                <a:cubicBezTo>
                  <a:pt x="2448" y="1724"/>
                  <a:pt x="2526" y="1736"/>
                  <a:pt x="2637" y="1641"/>
                </a:cubicBezTo>
                <a:cubicBezTo>
                  <a:pt x="2748" y="1546"/>
                  <a:pt x="2834" y="1230"/>
                  <a:pt x="2940" y="1162"/>
                </a:cubicBezTo>
                <a:cubicBezTo>
                  <a:pt x="3046" y="1094"/>
                  <a:pt x="3096" y="1228"/>
                  <a:pt x="3272" y="1232"/>
                </a:cubicBezTo>
                <a:cubicBezTo>
                  <a:pt x="3448" y="1236"/>
                  <a:pt x="3877" y="1368"/>
                  <a:pt x="3998" y="1187"/>
                </a:cubicBezTo>
                <a:cubicBezTo>
                  <a:pt x="4119" y="1006"/>
                  <a:pt x="4195" y="288"/>
                  <a:pt x="3998" y="144"/>
                </a:cubicBezTo>
                <a:cubicBezTo>
                  <a:pt x="3801" y="0"/>
                  <a:pt x="3066" y="181"/>
                  <a:pt x="2818" y="325"/>
                </a:cubicBezTo>
                <a:cubicBezTo>
                  <a:pt x="2570" y="469"/>
                  <a:pt x="2661" y="902"/>
                  <a:pt x="2510" y="1008"/>
                </a:cubicBezTo>
                <a:cubicBezTo>
                  <a:pt x="2359" y="1114"/>
                  <a:pt x="2080" y="940"/>
                  <a:pt x="1911" y="960"/>
                </a:cubicBezTo>
                <a:cubicBezTo>
                  <a:pt x="1742" y="980"/>
                  <a:pt x="1623" y="1001"/>
                  <a:pt x="1496" y="1131"/>
                </a:cubicBezTo>
                <a:cubicBezTo>
                  <a:pt x="1369" y="1261"/>
                  <a:pt x="1371" y="1638"/>
                  <a:pt x="1151" y="1738"/>
                </a:cubicBezTo>
                <a:cubicBezTo>
                  <a:pt x="931" y="1838"/>
                  <a:pt x="350" y="1667"/>
                  <a:pt x="175" y="1730"/>
                </a:cubicBezTo>
                <a:cubicBezTo>
                  <a:pt x="0" y="1793"/>
                  <a:pt x="75" y="2043"/>
                  <a:pt x="99" y="2114"/>
                </a:cubicBezTo>
                <a:cubicBezTo>
                  <a:pt x="123" y="2185"/>
                  <a:pt x="246" y="2164"/>
                  <a:pt x="321" y="2153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4680" y="2128680"/>
            <a:ext cx="6549840" cy="1870200"/>
          </a:xfrm>
          <a:custGeom>
            <a:avLst/>
            <a:gdLst/>
            <a:ahLst/>
            <a:rect l="l" t="t" r="r" b="b"/>
            <a:pathLst>
              <a:path w="4126" h="1178">
                <a:moveTo>
                  <a:pt x="227" y="1155"/>
                </a:moveTo>
                <a:cubicBezTo>
                  <a:pt x="310" y="1178"/>
                  <a:pt x="493" y="932"/>
                  <a:pt x="609" y="910"/>
                </a:cubicBezTo>
                <a:cubicBezTo>
                  <a:pt x="725" y="888"/>
                  <a:pt x="767" y="1011"/>
                  <a:pt x="926" y="1024"/>
                </a:cubicBezTo>
                <a:cubicBezTo>
                  <a:pt x="1085" y="1037"/>
                  <a:pt x="1325" y="1004"/>
                  <a:pt x="1563" y="986"/>
                </a:cubicBezTo>
                <a:cubicBezTo>
                  <a:pt x="1801" y="968"/>
                  <a:pt x="2134" y="985"/>
                  <a:pt x="2354" y="917"/>
                </a:cubicBezTo>
                <a:cubicBezTo>
                  <a:pt x="2574" y="849"/>
                  <a:pt x="2714" y="625"/>
                  <a:pt x="2884" y="579"/>
                </a:cubicBezTo>
                <a:cubicBezTo>
                  <a:pt x="3054" y="533"/>
                  <a:pt x="3244" y="658"/>
                  <a:pt x="3376" y="638"/>
                </a:cubicBezTo>
                <a:cubicBezTo>
                  <a:pt x="3508" y="618"/>
                  <a:pt x="3561" y="463"/>
                  <a:pt x="3675" y="456"/>
                </a:cubicBezTo>
                <a:cubicBezTo>
                  <a:pt x="3789" y="449"/>
                  <a:pt x="3995" y="639"/>
                  <a:pt x="4059" y="594"/>
                </a:cubicBezTo>
                <a:cubicBezTo>
                  <a:pt x="4123" y="549"/>
                  <a:pt x="4126" y="281"/>
                  <a:pt x="4057" y="184"/>
                </a:cubicBezTo>
                <a:cubicBezTo>
                  <a:pt x="3988" y="87"/>
                  <a:pt x="3765" y="0"/>
                  <a:pt x="3644" y="11"/>
                </a:cubicBezTo>
                <a:cubicBezTo>
                  <a:pt x="3523" y="22"/>
                  <a:pt x="3463" y="235"/>
                  <a:pt x="3329" y="249"/>
                </a:cubicBezTo>
                <a:cubicBezTo>
                  <a:pt x="3195" y="263"/>
                  <a:pt x="2962" y="98"/>
                  <a:pt x="2838" y="95"/>
                </a:cubicBezTo>
                <a:cubicBezTo>
                  <a:pt x="2714" y="92"/>
                  <a:pt x="2685" y="170"/>
                  <a:pt x="2584" y="233"/>
                </a:cubicBezTo>
                <a:cubicBezTo>
                  <a:pt x="2483" y="296"/>
                  <a:pt x="2338" y="453"/>
                  <a:pt x="2231" y="471"/>
                </a:cubicBezTo>
                <a:cubicBezTo>
                  <a:pt x="2124" y="489"/>
                  <a:pt x="2043" y="321"/>
                  <a:pt x="1939" y="341"/>
                </a:cubicBezTo>
                <a:cubicBezTo>
                  <a:pt x="1835" y="361"/>
                  <a:pt x="1782" y="623"/>
                  <a:pt x="1607" y="592"/>
                </a:cubicBezTo>
                <a:cubicBezTo>
                  <a:pt x="1432" y="561"/>
                  <a:pt x="1136" y="127"/>
                  <a:pt x="887" y="157"/>
                </a:cubicBezTo>
                <a:cubicBezTo>
                  <a:pt x="638" y="187"/>
                  <a:pt x="220" y="608"/>
                  <a:pt x="110" y="774"/>
                </a:cubicBezTo>
                <a:cubicBezTo>
                  <a:pt x="0" y="940"/>
                  <a:pt x="144" y="1132"/>
                  <a:pt x="227" y="1155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70040" y="3633840"/>
            <a:ext cx="6496200" cy="1192320"/>
          </a:xfrm>
          <a:custGeom>
            <a:avLst/>
            <a:gdLst/>
            <a:ahLst/>
            <a:rect l="l" t="t" r="r" b="b"/>
            <a:pathLst>
              <a:path w="4092" h="751">
                <a:moveTo>
                  <a:pt x="115" y="699"/>
                </a:moveTo>
                <a:cubicBezTo>
                  <a:pt x="229" y="751"/>
                  <a:pt x="351" y="707"/>
                  <a:pt x="822" y="706"/>
                </a:cubicBezTo>
                <a:cubicBezTo>
                  <a:pt x="1293" y="705"/>
                  <a:pt x="2419" y="717"/>
                  <a:pt x="2942" y="691"/>
                </a:cubicBezTo>
                <a:cubicBezTo>
                  <a:pt x="3465" y="665"/>
                  <a:pt x="3828" y="642"/>
                  <a:pt x="3960" y="551"/>
                </a:cubicBezTo>
                <a:cubicBezTo>
                  <a:pt x="4092" y="460"/>
                  <a:pt x="3860" y="224"/>
                  <a:pt x="3733" y="146"/>
                </a:cubicBezTo>
                <a:cubicBezTo>
                  <a:pt x="3606" y="68"/>
                  <a:pt x="3336" y="82"/>
                  <a:pt x="3195" y="84"/>
                </a:cubicBezTo>
                <a:cubicBezTo>
                  <a:pt x="3054" y="86"/>
                  <a:pt x="3001" y="170"/>
                  <a:pt x="2888" y="161"/>
                </a:cubicBezTo>
                <a:cubicBezTo>
                  <a:pt x="2775" y="152"/>
                  <a:pt x="2625" y="33"/>
                  <a:pt x="2519" y="30"/>
                </a:cubicBezTo>
                <a:cubicBezTo>
                  <a:pt x="2413" y="27"/>
                  <a:pt x="2366" y="145"/>
                  <a:pt x="2250" y="146"/>
                </a:cubicBezTo>
                <a:cubicBezTo>
                  <a:pt x="2134" y="147"/>
                  <a:pt x="2048" y="0"/>
                  <a:pt x="1820" y="38"/>
                </a:cubicBezTo>
                <a:cubicBezTo>
                  <a:pt x="1592" y="76"/>
                  <a:pt x="1163" y="317"/>
                  <a:pt x="883" y="376"/>
                </a:cubicBezTo>
                <a:cubicBezTo>
                  <a:pt x="603" y="435"/>
                  <a:pt x="266" y="337"/>
                  <a:pt x="138" y="391"/>
                </a:cubicBezTo>
                <a:cubicBezTo>
                  <a:pt x="10" y="445"/>
                  <a:pt x="0" y="650"/>
                  <a:pt x="115" y="699"/>
                </a:cubicBezTo>
                <a:close/>
              </a:path>
            </a:pathLst>
          </a:custGeom>
          <a:noFill/>
          <a:ln w="76320">
            <a:solidFill>
              <a:srgbClr val="ff3300"/>
            </a:solidFill>
            <a:round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7400" y="5805360"/>
            <a:ext cx="80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an task completion time for each technique depending of the ID of th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08360" y="2421000"/>
            <a:ext cx="0" cy="27367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940360" y="1773360"/>
            <a:ext cx="0" cy="338436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1C0-B494-499F-A3E6-099461431CD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2022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279240" y="5805360"/>
            <a:ext cx="247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or rates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(in perc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rcRect l="0" t="0" r="53750" b="3068"/>
          <a:stretch/>
        </p:blipFill>
        <p:spPr>
          <a:xfrm>
            <a:off x="1619280" y="1630440"/>
            <a:ext cx="2448000" cy="41036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4140360" y="3571920"/>
            <a:ext cx="2232000" cy="50472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6E49-FAEE-46A7-8D3D-AE6262F145E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cond study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908000" y="1413000"/>
            <a:ext cx="5473800" cy="42894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489400" y="580536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bjective preferences (higher is bet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00720" y="162864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3645000"/>
            <a:ext cx="2232000" cy="1871640"/>
          </a:xfrm>
          <a:prstGeom prst="rect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D463-4E35-44C1-84E1-E919CF09429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rag-and-dr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s well on single displ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ng pointer-to-target techniques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cc. push-and-throw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 improvements were benefi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ush-and-pop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utperformed all other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BCD-6FF5-49A1-A957-4CF92338C6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746000"/>
            <a:ext cx="91440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ques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hat bring content to the u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erformed bet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think: this is because they 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minimiz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need for users to reorient themsel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13CA-773C-4311-83B3-4255E824F0E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ize desig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132000" y="2997360"/>
            <a:ext cx="518508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A102-8C36-4834-B9A3-ACD38C0906C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6156360" cy="3799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6084720" y="4437000"/>
            <a:ext cx="2916360" cy="195732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s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A1F-D585-4A28-8A70-9F02FB3D3C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</a:t>
            </a: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nks to Mountaz &amp; Bri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 our demo f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lirmm.fr/vag/dra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8B9F-C380-4C76-985C-14B0C4EDD6C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inting on wall-size displ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 of existing techniq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cking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nd-throw &amp; drag-and-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est of both worlds: </a:t>
            </a: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push-and-po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Stud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443640" y="1628640"/>
            <a:ext cx="2124000" cy="141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B0E3-26E2-4AE4-90AE-46AB22FBE63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« In case of » slid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rubber b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np with one rubber band (current selected targe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desktop layout cho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ment rooms arran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ending push-and-pop to widg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9A95-34BA-43A0-9250-8DBD6482D3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« many same-icon targets » probl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35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2FAD-6F29-404D-AFA9-CE031F808385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ush-and-pop with rubber ban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D33D-753F-4F0D-A0EE-C4A91DF5FA85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667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9334"/>
                            </p:stCondLst>
                            <p:childTnLst>
                              <p:par>
                                <p:cTn id="2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4667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sh-and-pop with one rubber band (current selected target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5143680" cy="235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698-F64E-46CC-BD82-D2493ADEE8CA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334"/>
                            </p:stCondLst>
                            <p:childTnLst>
                              <p:par>
                                <p:cTn id="2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2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68"/>
                            </p:stCondLst>
                            <p:childTnLst>
                              <p:par>
                                <p:cTn id="2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3334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 blocks of 10 t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interaction techniqu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desktop layou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sources and targets (different positions for each trial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erent source and targ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otal of 160 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gle display and mouse were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6CA4-FE2E-40F2-A879-44A6E656B0D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rking menus [Kurtenbach, CHI 94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2887560"/>
            <a:ext cx="4427640" cy="35560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4932360" cy="24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12A6-6ABF-4E13-ADC1-55A61D45847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periment desktop layout choic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erences wasn’t significant between the 2 desktop lay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70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rag-and-dr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0.566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ush-and-p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3770280"/>
            <a:ext cx="4572000" cy="30877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572000" y="3770280"/>
            <a:ext cx="457200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BC20-4267-4983-B2DE-E3ACF1F1B85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uture work: Tableclot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85800" y="3505320"/>
            <a:ext cx="7314480" cy="2316600"/>
            <a:chOff x="685800" y="3505320"/>
            <a:chExt cx="7314480" cy="2316600"/>
          </a:xfrm>
        </p:grpSpPr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685800" y="3505320"/>
              <a:ext cx="7314480" cy="195156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3714480" y="4373640"/>
              <a:ext cx="967320" cy="144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D3D8-18E4-4D29-A050-A6857F45BE9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all-size display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mented surfaces are more and more widely avail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martboard ®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292720" y="1844640"/>
            <a:ext cx="3851280" cy="2889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rcRect l="24642" t="0" r="0" b="0"/>
          <a:stretch/>
        </p:blipFill>
        <p:spPr>
          <a:xfrm>
            <a:off x="6721560" y="3716280"/>
            <a:ext cx="2422440" cy="241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924360" y="3357720"/>
            <a:ext cx="2384280" cy="31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885-2C57-4743-A4E7-F6115ACD546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11206" t="0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Problems with pen&amp;tou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581360"/>
            <a:ext cx="4572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ay not be able to reach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 may be too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zels not touch sen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795-C4E8-4868-98F2-CD9B2D0DA3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Related work</a:t>
            </a:r>
            <a:br>
              <a:rPr sz="5400"/>
            </a:b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(RSVP version)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5413-5530-4A54-AE0E-97FEDAEB42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ck-and-dro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k-and-drop [Rekimoto, 97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-and-put [Geißler, 98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79640" y="3716280"/>
            <a:ext cx="5143320" cy="235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0264-7E80-4942-A502-31EF28F5FF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34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7068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534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a6ea5"/>
            </a:gs>
            <a:gs pos="100000">
              <a:srgbClr val="2d56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yperdragging [Rekimoto, CHI 99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6769080" cy="50767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rcRect l="26676" t="9898" r="24390" b="20929"/>
          <a:stretch/>
        </p:blipFill>
        <p:spPr>
          <a:xfrm>
            <a:off x="6443640" y="3860640"/>
            <a:ext cx="2376360" cy="251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I'05, Victoria, BC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A6FC-7262-4968-959C-BE2582BF92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y, 2005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7:58:37Z</dcterms:created>
  <dc:creator>collomb</dc:creator>
  <dc:description/>
  <dc:language>en-US</dc:language>
  <cp:lastModifiedBy>collomb</cp:lastModifiedBy>
  <dcterms:modified xsi:type="dcterms:W3CDTF">2005-05-09T08:35:04Z</dcterms:modified>
  <cp:revision>57</cp:revision>
  <dc:subject/>
  <dc:title>Diapositive 1</dc:title>
</cp:coreProperties>
</file>